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AFA-7EDF-4DE0-A5C0-EE01A8B3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24E-CC89-46BA-83BE-E7A64950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9D0-D5DB-4F1B-982B-2719EC5B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BE9-C1D6-48E4-9364-30E3B47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6C6C-AC2D-4B0B-A9B2-51C750A9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21A9-79A7-4215-9B50-8C6E8F0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E2E-87CD-4059-B0EF-1DB7E24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743B-552B-4C47-A276-F8D3242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85E-4A03-44C6-92A9-0A3429F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49F3-F5C0-4253-AD22-8619DB5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7D9-2117-4932-ADCF-B067BFE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555-41A2-47AD-826B-DCF3D80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9821-B691-4845-B5F9-FAD2330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BEDB-60D0-458E-B213-9FADAE61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D2F-5DF0-4925-A511-4AFAF2C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8F50-06E4-4170-8179-2E2F5EA1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423-B9A8-4984-AC44-E6EAD31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16E-EC9D-4101-A636-2084A82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7C8-F423-4FFD-8066-FB302B9C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B49-EB11-45FE-893E-0E816CB9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A3C-8E5B-43BF-B127-01CDD75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D24-681A-4EF6-92DF-26AF39F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F72-1274-4BE8-882E-1AA08A3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5AE-B1C9-4DAE-9C83-D54A4AC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B9F-EAD3-40BB-83D4-8C4B00B8AD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1677-2097-4BBA-B2E4-7C39854DE9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 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lase 7 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ha _____________________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ea #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I-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lete with an appropriate vocabulary word(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ay cinco jugadores en __________ de balonces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pícher de béisbol __________ la pelota con la ma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portero ____________ la porterí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____________ queda empatado a 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equipo pierde y el otro 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el balón entra en la portería el jugador _______ un gol y marca 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completa con el verbo indi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lase __________ a las ocho. (empez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lumnos _________a clase. (volv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equipo de las Águilas ________. (per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dos chicos ________ jugar. (quer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Leones __________ ganar. (po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o ________ jugar futbol. (prefer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osotros no ___________ baloncesto.(jug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22:16:13Z</dcterms:created>
  <dc:creator>Helen Zumaeta</dc:creator>
  <dc:description/>
  <dc:language>en-US</dc:language>
  <cp:lastModifiedBy>Helen Zumaeta</cp:lastModifiedBy>
  <dcterms:modified xsi:type="dcterms:W3CDTF">2012-10-03T22:17:16Z</dcterms:modified>
  <cp:revision>1</cp:revision>
  <dc:subject/>
  <dc:title>Nombre  __________________     Clase 7 il Fecha _____________________      Tarea # 10</dc:title>
</cp:coreProperties>
</file>